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9A66-30A9-4167-B596-F887CBA15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FF4B-80EB-44CC-99F6-02271B9AC1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5515-59BD-47B5-96A0-A5E4D0A37A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47B9-A7F8-4C7F-9563-D1363C5F9C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988F-E782-4ED8-9AEC-0F581869F3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0A4B-04CF-4428-ACBE-3ECF30ED6D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7EA7-0CB7-45CE-911F-9ADFD6DE54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063D-3DDD-470C-8DA8-BAB25AD057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D213-7B6B-4D79-952C-CFE5F0B36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D012-5317-4D2A-BA4A-BBAF68E9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72F5-050C-4203-8D21-EF032CAAC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9310-63D9-47FD-BCFE-3D51568B6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5A23-361C-4253-BD0A-FA5726412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97AE-9880-44B6-BC8F-AB62DDFE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FB81-1290-493E-8D48-665162F7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CC63-3284-426B-BB60-A3853FA4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4E5C-CF1A-4FEE-BF78-371F4565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D4FF-E447-4770-B2DD-53AEBE4A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B37C-5FE1-448B-94BD-9D055DEF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AA60-00AC-4780-9BF3-D5EA6011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8256-1EB5-49C9-AAE3-6F99881A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31E5-EE3B-451A-BB3B-524C90CC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2F21-F2F8-4838-A6BE-2DF4EABC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53EB-F2AD-4191-9982-CDCCCB6B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0E13-9A63-46C5-9D2B-9396F1FC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16CA5-1197-48C2-81E3-B1E3164B3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164EB-63B1-48B2-ABE5-C36AEB91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BFF7A-23BF-4A44-AA58-45EA9C5C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1DD79-D849-442B-B443-5ADE9406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07D0F-E9B0-4460-88AA-7E3B2B6E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9023-BB4F-41C8-B292-34DA3D29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38B3A-C58A-4A7F-A1F7-6B98870E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4D878-36EE-4FFC-8927-DEC1CA74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0247F-7F1F-4F34-87B2-BCEED439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A8DD8-D62F-4467-B222-6D674AA0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95F80-6620-40E3-92AD-3105535C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D5E6E-CAEB-40E7-85A2-D88C7044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890B9-A2D6-4B24-A71B-44F6EEEFB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BD9AF-950B-443E-81E5-51F97200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C124D-D809-455F-9D2B-61D55F5A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561A5-3927-45C8-B678-0542AF54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4B29-B3AF-408E-A8C3-D0E8AE0A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D7B9B-F6B7-4027-8BD0-F26B289C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738F8-F20E-4C4C-96AA-209908C4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C7497-70DC-4FD3-8FF6-EADD2DE3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32808-AC1A-4BAC-84A3-91A2FC18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85E76-5C22-4A08-9451-FC765749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1526B-D396-473A-A057-E75AD66B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39683-6E2D-4666-AEF4-D1CE9FEC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6CF41-9417-4C0F-A433-43857CBEF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8E6E7-10F9-42CA-B3BD-1F6222013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3CB3D-0E27-4F66-A142-DDB73BF7F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ACF7-E147-41A5-89D2-2AA379E9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FC92A-EB4C-46C8-B5B6-524BB86D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A4FF9-E8AA-4871-A68E-AE23A8CB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C15C6-B325-44A9-832E-7C3425DE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AA9A3-C17C-495A-966F-FA3FEFC0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4A913-53AF-44B1-868D-F150383E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2A771-2E9E-4920-BA85-FBEECA0A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6A147-9F9D-4E99-8E8E-406E40A4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17E4B-E2E3-40E2-AEEF-BB329037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657F8-C70F-4F60-8BCA-23590710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4AC4A-EC6D-4982-8E98-BFC1410A0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9540-0D24-4D67-9B07-1A9E1166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9C60F-D08A-4B23-BA79-C4228607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B8C0D-59D2-4CE3-A940-818B2D9A3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3169A-B9DA-4B6A-B521-35413474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AB96F-BBF0-4B39-8CAD-CC86BEE0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24AE6-EF13-438B-B7A9-DE8215F5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3752B-2528-46B6-B960-C39B0414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86435-7563-431D-9EF0-3BF8A081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55030-26AC-4D50-AE47-B38CB08D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4688D-0297-4B5D-A9C1-49FDD531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EFF66-BFDA-4064-99ED-064AE50D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2851-3900-40A0-A305-ED6B4166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D77E3-549A-405E-962E-D9EB7892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DE4A1-8402-4D04-8F24-DB491691D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C12F7-3369-4EFC-A4C3-1D7CCC39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5E3E6-8804-45A3-B25A-5C7F72B8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B7F97-19FD-4CD9-8273-7D4B794A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76D0B-20BB-422E-BFF8-38D0205C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1EEB6-9AF6-4C49-8460-2BE54BAA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3F148-8E39-429D-B9BF-EA151870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8B20E-501E-4BA9-A4F5-69CD5491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58C54-841A-4D98-BF03-85F23AAE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8992-9548-417C-909A-D4F6B0E3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382FB-89D0-4C77-8D72-8A9FB6AB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12E96-A74F-4FB8-9B53-1D4646BF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FFE0F-800E-47AB-B954-DA5FF2DD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1F6BC-D983-43EE-9337-66F572B67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83E6D-8C33-4A28-AB4D-E25B652C1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9DBF-D64E-48C2-8D32-36413368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32E8-F36D-468B-88D1-4147C7B98B7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40E1-A6D1-4A68-AFF1-7E4ABFDFA9F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1CEF-D54D-4E4F-A989-460FA46576A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3440-F621-48C4-A9FD-E725CE48AF0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F6B5-AAC4-4B63-941A-D5F57BFF5BC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352B-D673-45BB-A28C-C46433154EB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17C4-5A12-4DA1-B18A-84796B5794E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4"/>
          <p:cNvSpPr/>
          <p:nvPr/>
        </p:nvSpPr>
        <p:spPr>
          <a:xfrm>
            <a:off x="0" y="561960"/>
            <a:ext cx="9144000" cy="16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3f2"/>
                </a:solidFill>
                <a:latin typeface="Corbel"/>
              </a:rPr>
              <a:t>8</a:t>
            </a:r>
            <a:r>
              <a:rPr b="1" lang="en-US" sz="4000" spc="-1" strike="noStrike" baseline="30000">
                <a:solidFill>
                  <a:srgbClr val="f2f3f2"/>
                </a:solidFill>
                <a:latin typeface="Corbel"/>
              </a:rPr>
              <a:t>th</a:t>
            </a:r>
            <a:r>
              <a:rPr b="1" lang="en-US" sz="4000" spc="-1" strike="noStrike">
                <a:solidFill>
                  <a:srgbClr val="f2f3f2"/>
                </a:solidFill>
                <a:latin typeface="Corbel"/>
              </a:rPr>
              <a:t> Gra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2813040" y="2451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WordArt 6"/>
          <p:cNvSpPr txBox="1"/>
          <p:nvPr/>
        </p:nvSpPr>
        <p:spPr>
          <a:xfrm>
            <a:off x="1295280" y="1828800"/>
            <a:ext cx="55627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Marker Felt"/>
              </a:rPr>
              <a:t>Englis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Marker Felt"/>
              <a:ea typeface="Marker Felt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7888320" y="4525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TextBox 1"/>
          <p:cNvSpPr/>
          <p:nvPr/>
        </p:nvSpPr>
        <p:spPr>
          <a:xfrm>
            <a:off x="1676520" y="5181480"/>
            <a:ext cx="5410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Mrs. Debbie Ladeby &amp; Ms. Brittani Siracus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3f2"/>
                </a:solidFill>
                <a:latin typeface="Consolas"/>
              </a:rPr>
              <a:t>Daily Particip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2f3f2"/>
                </a:solidFill>
                <a:latin typeface="Corbel"/>
              </a:rPr>
              <a:t>Contribute to class discussions constructivel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2f3f2"/>
                </a:solidFill>
                <a:latin typeface="Corbel"/>
              </a:rPr>
              <a:t>Listen quietly and respectfully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2f3f2"/>
                </a:solidFill>
                <a:latin typeface="Corbel"/>
              </a:rPr>
              <a:t>Prepared with all material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2f3f2"/>
                </a:solidFill>
                <a:latin typeface="Corbel"/>
              </a:rPr>
              <a:t>Cooperate when working in small group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2f3f2"/>
                </a:solidFill>
                <a:latin typeface="Corbel"/>
              </a:rPr>
              <a:t>Following class expectation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2f3f2"/>
                </a:solidFill>
                <a:latin typeface="Corbel"/>
              </a:rPr>
              <a:t>Positive attitude and pleasant demeano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2f3f2"/>
                </a:solidFill>
                <a:latin typeface="Corbel"/>
              </a:rPr>
              <a:t>Independent Reading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2f3f2"/>
                </a:solidFill>
                <a:latin typeface="Corbel"/>
              </a:rPr>
              <a:t>iPads charg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3f2"/>
                </a:solidFill>
                <a:latin typeface="Consolas"/>
              </a:rPr>
              <a:t>Late Work Policy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5228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65760" indent="-3049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3f2"/>
                </a:solidFill>
                <a:latin typeface="Corbel"/>
              </a:rPr>
              <a:t>Once an assignment has been entered into Power School,  students have one week to turn it in before it becomes a zero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3f2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3f2"/>
                </a:solidFill>
                <a:latin typeface="Corbel"/>
              </a:rPr>
              <a:t>Late work will receive no higher than a “C”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3f2"/>
                </a:solidFill>
                <a:latin typeface="Corbel"/>
              </a:rPr>
              <a:t>After a week, an assignment can receive no more than 50%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3f2"/>
                </a:solidFill>
                <a:latin typeface="Consolas"/>
              </a:rPr>
              <a:t>Absences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85440" y="15238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3f2"/>
                </a:solidFill>
                <a:latin typeface="Corbel"/>
              </a:rPr>
              <a:t>Attendance is crucial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3f2"/>
                </a:solidFill>
                <a:latin typeface="Corbel"/>
              </a:rPr>
              <a:t>A student is responsible for missing work while out on an absenc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3f2"/>
                </a:solidFill>
                <a:latin typeface="Corbel"/>
              </a:rPr>
              <a:t>Help your child by checking the class websit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3f2"/>
                </a:solidFill>
                <a:latin typeface="Corbel"/>
              </a:rPr>
              <a:t>Email me if you or your child needs more clarificatio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3f2"/>
                </a:solidFill>
                <a:latin typeface="Corbel"/>
              </a:rPr>
              <a:t>Most assignments can be completed and submitted onlin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3f2"/>
                </a:solidFill>
                <a:latin typeface="Corbel"/>
              </a:rPr>
              <a:t>Your child will receive extra days according to absenc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3f2"/>
                </a:solidFill>
                <a:latin typeface="Consolas"/>
              </a:rPr>
              <a:t>Student Progress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3f2"/>
                </a:solidFill>
                <a:latin typeface="Corbel"/>
              </a:rPr>
              <a:t>Please check Power School account to make sure you’re on track!!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3f2"/>
                </a:solidFill>
                <a:latin typeface="Corbel"/>
              </a:rPr>
              <a:t>Parent Login received at Tech Training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3f2"/>
                </a:solidFill>
                <a:latin typeface="Corbel"/>
              </a:rPr>
              <a:t>Monthly Class Progress Reports home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1375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8623440" y="57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f3f2"/>
                </a:solidFill>
                <a:latin typeface="Consolas"/>
              </a:rPr>
              <a:t>Tutoring</a:t>
            </a: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3f2"/>
                </a:solidFill>
                <a:latin typeface="Corbel"/>
              </a:rPr>
              <a:t>Every </a:t>
            </a:r>
            <a:r>
              <a:rPr b="1" lang="en-US" sz="4000" spc="-1" strike="noStrike">
                <a:solidFill>
                  <a:srgbClr val="f2f3f2"/>
                </a:solidFill>
                <a:latin typeface="Corbel"/>
              </a:rPr>
              <a:t>Monday , Tuesday, and Most Thursdays</a:t>
            </a:r>
            <a:r>
              <a:rPr b="0" lang="en-US" sz="1200" spc="-1" strike="noStrike">
                <a:solidFill>
                  <a:srgbClr val="f2f3f2"/>
                </a:solidFill>
                <a:latin typeface="Corbe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3f2"/>
                </a:solidFill>
                <a:latin typeface="Corbel"/>
              </a:rPr>
              <a:t>	</a:t>
            </a:r>
            <a:r>
              <a:rPr b="0" lang="en-US" sz="3600" spc="-1" strike="noStrike">
                <a:solidFill>
                  <a:srgbClr val="f2f3f2"/>
                </a:solidFill>
                <a:latin typeface="Corbel"/>
              </a:rPr>
              <a:t>	</a:t>
            </a:r>
            <a:r>
              <a:rPr b="0" lang="en-US" sz="3600" spc="-1" strike="noStrike">
                <a:solidFill>
                  <a:srgbClr val="f2f3f2"/>
                </a:solidFill>
                <a:latin typeface="Corbel"/>
              </a:rPr>
              <a:t>	</a:t>
            </a:r>
            <a:r>
              <a:rPr b="0" lang="en-US" sz="3600" spc="-1" strike="noStrike">
                <a:solidFill>
                  <a:srgbClr val="f2f3f2"/>
                </a:solidFill>
                <a:latin typeface="Corbel"/>
              </a:rPr>
              <a:t>	</a:t>
            </a:r>
            <a:r>
              <a:rPr b="0" lang="en-US" sz="3600" spc="-1" strike="noStrike">
                <a:solidFill>
                  <a:srgbClr val="f2f3f2"/>
                </a:solidFill>
                <a:latin typeface="Corbel"/>
              </a:rPr>
              <a:t>3:00 – 4:00 p.m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3f2"/>
                </a:solidFill>
                <a:latin typeface="Corbel"/>
              </a:rPr>
              <a:t>Before school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3f2"/>
                </a:solidFill>
                <a:latin typeface="Corbel"/>
              </a:rPr>
              <a:t>By appointmen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7" name="Picture 6" descr=""/>
          <p:cNvPicPr/>
          <p:nvPr/>
        </p:nvPicPr>
        <p:blipFill>
          <a:blip r:embed="rId1"/>
          <a:stretch/>
        </p:blipFill>
        <p:spPr>
          <a:xfrm>
            <a:off x="6400800" y="3733920"/>
            <a:ext cx="251784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685800" y="3808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f3f2"/>
                </a:solidFill>
                <a:latin typeface="Corbel"/>
              </a:rPr>
              <a:t>Please contact me if you have any questions/concerns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dladeby@sandi.net 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eb80a"/>
                </a:solidFill>
                <a:latin typeface="Corbel"/>
              </a:rPr>
              <a:t>bsiracusa@sandi.net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Please update Power School Profile with email address through the office!!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9" name="Picture 4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838440" cy="742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3f2"/>
                </a:solidFill>
                <a:latin typeface="Consolas"/>
              </a:rPr>
              <a:t>Daily Expectation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2f3f2"/>
                </a:solidFill>
                <a:latin typeface="Corbel"/>
              </a:rPr>
              <a:t>In your seat by the time the bell ring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2f3f2"/>
                </a:solidFill>
                <a:latin typeface="Corbel"/>
              </a:rPr>
              <a:t>Prepared with all supplies in clas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2f3f2"/>
                </a:solidFill>
                <a:latin typeface="Corbel"/>
              </a:rPr>
              <a:t>Homework written in planner dail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2f3f2"/>
                </a:solidFill>
                <a:latin typeface="Corbel"/>
              </a:rPr>
              <a:t>Positive Attitude and Open min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2f3f2"/>
                </a:solidFill>
                <a:latin typeface="Corbel"/>
              </a:rPr>
              <a:t>SURGE Environmen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b80a"/>
                </a:solidFill>
                <a:latin typeface="Consolas"/>
              </a:rPr>
              <a:t>Curriculum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09480" y="10663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3f2"/>
                </a:solidFill>
                <a:latin typeface="Corbel"/>
              </a:rPr>
              <a:t>Focus on Common Core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901"/>
              </a:spcBef>
              <a:buClr>
                <a:srgbClr val="ea157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3f2"/>
                </a:solidFill>
                <a:latin typeface="Corbel"/>
              </a:rPr>
              <a:t>Emphasis on Literacy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850"/>
              </a:spcBef>
              <a:buClr>
                <a:srgbClr val="ea157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2f3f2"/>
                </a:solidFill>
                <a:latin typeface="Corbel"/>
              </a:rPr>
              <a:t>Reading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850"/>
              </a:spcBef>
              <a:buClr>
                <a:srgbClr val="ea157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2f3f2"/>
                </a:solidFill>
                <a:latin typeface="Corbel"/>
              </a:rPr>
              <a:t>Writing 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850"/>
              </a:spcBef>
              <a:buClr>
                <a:srgbClr val="ea157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2f3f2"/>
                </a:solidFill>
                <a:latin typeface="Corbel"/>
              </a:rPr>
              <a:t>Critical Thinking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850"/>
              </a:spcBef>
              <a:buClr>
                <a:srgbClr val="ea157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2f3f2"/>
                </a:solidFill>
                <a:latin typeface="Corbel"/>
              </a:rPr>
              <a:t>Ability to support claims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850"/>
              </a:spcBef>
              <a:buClr>
                <a:srgbClr val="ea157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2f3f2"/>
                </a:solidFill>
                <a:latin typeface="Corbel"/>
              </a:rPr>
              <a:t>Discussions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lnSpc>
                <a:spcPct val="90000"/>
              </a:lnSpc>
              <a:spcBef>
                <a:spcPts val="799"/>
              </a:spcBef>
              <a:buClr>
                <a:srgbClr val="feb80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3f2"/>
                </a:solidFill>
                <a:latin typeface="Corbel"/>
              </a:rPr>
              <a:t>Informa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lnSpc>
                <a:spcPct val="90000"/>
              </a:lnSpc>
              <a:spcBef>
                <a:spcPts val="799"/>
              </a:spcBef>
              <a:buClr>
                <a:srgbClr val="feb80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3f2"/>
                </a:solidFill>
                <a:latin typeface="Corbel"/>
              </a:rPr>
              <a:t>Formal - Forum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799"/>
              </a:spcBef>
              <a:buClr>
                <a:srgbClr val="ea157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Units of Stud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lements of Narrativ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sponse to Literature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xpository Tex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rgument Writ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ose Reading and Summary Writ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Keeping Track of Assignment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ook for the agenda on the board – planner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ass Website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ms.sandi.ne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heck with class friend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mail: dladeby@sandi.net or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       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siracusa@sandi.net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“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 don’t have any homework.”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et me see your planner.”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ow, let’s check the class website.”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how me your completed assignment.”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s there anything else you can add?”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f you don’t have any homework, take out a book and read.”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on’t forget to charge your iPad.”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3f2"/>
                </a:solidFill>
                <a:latin typeface="Consolas"/>
              </a:rPr>
              <a:t>Suppli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0948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2f3f2"/>
                </a:solidFill>
                <a:latin typeface="Corbel"/>
              </a:rPr>
              <a:t>2 ½” Three Ring Binder w/ Dividers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2f3f2"/>
                </a:solidFill>
                <a:latin typeface="Corbel"/>
              </a:rPr>
              <a:t>Binder pap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2f3f2"/>
                </a:solidFill>
                <a:latin typeface="Corbel"/>
              </a:rPr>
              <a:t>Pencils/Pens (multiple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2f3f2"/>
                </a:solidFill>
                <a:latin typeface="Corbel"/>
              </a:rPr>
              <a:t>Highlight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2f3f2"/>
                </a:solidFill>
                <a:latin typeface="Corbel"/>
              </a:rPr>
              <a:t>Colored Pencils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2f3f2"/>
                </a:solidFill>
                <a:latin typeface="Corbel"/>
              </a:rPr>
              <a:t>Ear buds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2f3f2"/>
                </a:solidFill>
                <a:latin typeface="Corbel"/>
              </a:rPr>
              <a:t>iPad Charged Daily!!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3f2"/>
                </a:solidFill>
                <a:latin typeface="Consolas"/>
              </a:rPr>
              <a:t>Grad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3f2"/>
                </a:solidFill>
                <a:latin typeface="Corbel"/>
              </a:rPr>
              <a:t>A standard grading scale will be used (A=100%-90%; B=89%-80%; C=79%-70%; D=69%-60%; F 59% and below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3f2"/>
                </a:solidFill>
                <a:latin typeface="Corbel"/>
              </a:rPr>
              <a:t>Grade will consist of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3f2"/>
                </a:solidFill>
                <a:latin typeface="Corbel"/>
              </a:rPr>
              <a:t>Classwork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3f2"/>
                </a:solidFill>
                <a:latin typeface="Corbel"/>
              </a:rPr>
              <a:t>Homework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3f2"/>
                </a:solidFill>
                <a:latin typeface="Corbel"/>
              </a:rPr>
              <a:t>Written Work/Project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3f2"/>
                </a:solidFill>
                <a:latin typeface="Corbel"/>
              </a:rPr>
              <a:t>Assessment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3f2"/>
                </a:solidFill>
                <a:latin typeface="Corbel"/>
              </a:rPr>
              <a:t>Participation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3f2"/>
                </a:solidFill>
                <a:latin typeface="Consolas"/>
              </a:rPr>
              <a:t>Posting Grad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3f2"/>
                </a:solidFill>
                <a:latin typeface="Corbel"/>
              </a:rPr>
              <a:t>Grades are entered as soon as I can get to them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3f2"/>
                </a:solidFill>
                <a:latin typeface="Corbel"/>
              </a:rPr>
              <a:t>Keep track of assignments on Power School and verify scores with returned documents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3f2"/>
                </a:solidFill>
                <a:latin typeface="Corbel"/>
              </a:rPr>
              <a:t>(Students that submit </a:t>
            </a:r>
            <a:r>
              <a:rPr b="0" lang="ja-JP" sz="2800" spc="-1" strike="noStrike">
                <a:solidFill>
                  <a:srgbClr val="f2f3f2"/>
                </a:solidFill>
                <a:latin typeface="Corbel"/>
                <a:ea typeface="HGｺﾞｼｯｸM"/>
              </a:rPr>
              <a:t>“</a:t>
            </a:r>
            <a:r>
              <a:rPr b="0" lang="en-US" sz="2800" spc="-1" strike="noStrike">
                <a:solidFill>
                  <a:srgbClr val="f2f3f2"/>
                </a:solidFill>
                <a:latin typeface="Corbel"/>
                <a:ea typeface="HGｺﾞｼｯｸM"/>
              </a:rPr>
              <a:t>late work</a:t>
            </a:r>
            <a:r>
              <a:rPr b="0" lang="ja-JP" sz="2800" spc="-1" strike="noStrike">
                <a:solidFill>
                  <a:srgbClr val="f2f3f2"/>
                </a:solidFill>
                <a:latin typeface="Corbel"/>
                <a:ea typeface="HGｺﾞｼｯｸM"/>
              </a:rPr>
              <a:t>”</a:t>
            </a:r>
            <a:r>
              <a:rPr b="0" lang="en-US" sz="2800" spc="-1" strike="noStrike">
                <a:solidFill>
                  <a:srgbClr val="f2f3f2"/>
                </a:solidFill>
                <a:latin typeface="Corbel"/>
                <a:ea typeface="HGｺﾞｼｯｸM"/>
              </a:rPr>
              <a:t> must be patient for entering of points.  Be persistent, but still polite.) </a:t>
            </a:r>
            <a:r>
              <a:rPr b="0" lang="en-US" sz="2800" spc="-1" strike="noStrike">
                <a:solidFill>
                  <a:srgbClr val="f2f3f2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f2f3f2"/>
                </a:solidFill>
                <a:latin typeface="Corbel"/>
                <a:ea typeface="HGｺﾞｼｯｸM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4T14:55:13Z</dcterms:created>
  <dc:creator>Rick Selby</dc:creator>
  <dc:description/>
  <dc:language>en-US</dc:language>
  <cp:lastModifiedBy>Siracusa Brittani</cp:lastModifiedBy>
  <cp:lastPrinted>2003-09-24T17:54:21Z</cp:lastPrinted>
  <dcterms:modified xsi:type="dcterms:W3CDTF">2013-10-02T23:22:52Z</dcterms:modified>
  <cp:revision>82</cp:revision>
  <dc:subject/>
  <dc:title>No Slide Title</dc:title>
</cp:coreProperties>
</file>